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5DB-2C4E-49B3-8ADD-804A530B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855-C6A5-42F0-9E95-23989DFF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9D4-6323-4C74-A561-138AF8BB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CA4-24E5-48C2-A4AA-0FC5B3A2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7100-271D-41F7-B96A-A0F76AC9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D81F-2273-4960-AEFF-E4ADD07D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5B48-710F-4177-B173-BA2000F0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F081-BB05-4E53-9855-498EC9D9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4E12-A0E2-4C6C-BA4F-6ABB29D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6F9C-DFA1-4B22-8A09-C9F088D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5542-F4D4-4C11-B95A-D92BDF6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A0A-9307-4AE1-BE9B-5B4B2F6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D79-A697-4925-9A5B-164B596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B0B7-ECB5-433C-AABB-9BF4121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C976-B4FE-49E2-BC7F-A6EEE2D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FF82-6489-49CF-B2AA-1417C855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CBE7-6AEE-476C-B649-858ADA41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C9C-5BA6-4A6C-A551-0EAC0C6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063-70AD-42F9-8E9E-0D58AB6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7AF-A966-4D63-A35D-D4B8F53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690-C69D-4172-8464-25B8C03E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2FC-601F-4115-A60F-2A8DD7A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077-9F40-4D2B-ACDF-F7993D9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EA-29AC-44B3-8A42-2B36A1A2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76C-11D3-4710-A3C8-C640B9C321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EC2C-B295-4E20-8484-194599FE59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360" y="404640"/>
            <a:ext cx="5478480" cy="11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 V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vale nada que tenga bu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intencio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i bay ojos tan gach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dis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ha de hacerse d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n todo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ien celaré mi angust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me de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 amor un alma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riste, apa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¿Viste al que el miedo sobrecog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al ave en sus temo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620640"/>
            <a:ext cx="302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0"/>
            <a:ext cx="44136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pecho hi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uando el deseo arrecia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¿Por qué estas an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acaban y no ces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y del coper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sí mi muerte anhel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Vino prep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l corazón dentro se escond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dispara arp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gloria goza con 'Ali Ab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de cumpl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lla el honor real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mis des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an alas sus bon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is espe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e logran gracias a señ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que son de luz. fulg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9720" y="762120"/>
            <a:ext cx="346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 su bel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 alba mayor brill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da su g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jor perfume al v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una estr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 guía al peregr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eón que esp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 mala suerte, que a sus  v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lena de miedo cor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220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1050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050840"/>
            <a:ext cx="574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  adorn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an pronto lo contemp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onor no exi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tanto resplandez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nta, embrujada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h gloria- con sus pren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EN YA SAHHARA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ALBA Q’ESTA KON BEL FOG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KAND BENE BID A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VEN OH HECHI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UN ALBA QUE TIENE TAN HERMOSO FULG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UANDO VIENE PIDE AM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2:17:25Z</dcterms:created>
  <dc:creator> </dc:creator>
  <dc:description/>
  <dc:language>en-US</dc:language>
  <cp:lastModifiedBy> </cp:lastModifiedBy>
  <dcterms:modified xsi:type="dcterms:W3CDTF">2007-09-29T02:43:49Z</dcterms:modified>
  <cp:revision>5</cp:revision>
  <dc:subject/>
  <dc:title>Diapositiva 1</dc:title>
</cp:coreProperties>
</file>